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70080" y="2984400"/>
            <a:ext cx="1047744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marL="246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246960" indent="-246960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marL="58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marL="58320" indent="-58320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marL="58320" indent="-58320" algn="ctr">
              <a:buClr>
                <a:srgbClr val="ffffff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48" name="Rectangle 1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MS PGothic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49" name="Rectangle 2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iencenotebooks.org/" TargetMode="External"/><Relationship Id="rId2" Type="http://schemas.openxmlformats.org/officeDocument/2006/relationships/hyperlink" Target="http://www.utdallas.edu/scimathed/resources/SER/SCE5308_s04/Using_Elementary_Interactive_Science_JournalsDRW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0" y="1778040"/>
            <a:ext cx="1300464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137600" y="281880"/>
            <a:ext cx="1072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MS PGothic"/>
              </a:rPr>
              <a:t>The Brains Behind this Presentation...</a:t>
            </a:r>
            <a:endParaRPr b="0" lang="en-US" sz="48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8153280"/>
            <a:ext cx="13004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MS PGothic"/>
              </a:rPr>
              <a:t>This presentation is posted at: http://sciencetechbook.wikispaces.com</a:t>
            </a:r>
            <a:endParaRPr b="0" lang="en-US" sz="38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177840" y="1600200"/>
            <a:ext cx="1264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sciencenotebooks.org/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utdallas.edu/scimathed/resources/SER/SCE5308_s04/Using_Elementary_Interactive_Science_JournalsDRW.pdf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://biogeekwiki.wikispaces.com/Interactive+Science+Journal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://www.youtube.com/watch?v=NVdRfuWe4YM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s://foldables.wikispaces.com/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://www.educationworld.com/tools_templates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://www.dinah.com/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Arial"/>
                <a:ea typeface="Arial"/>
              </a:rPr>
              <a:t>http://www.thinkport.org/technology/template.tp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tiD</dc:creator>
  <dc:description/>
  <dc:language>en-US</dc:language>
  <cp:lastModifiedBy>PattiD</cp:lastModifiedBy>
  <dcterms:modified xsi:type="dcterms:W3CDTF">2012-11-20T01:42:40Z</dcterms:modified>
  <cp:revision>13</cp:revision>
  <dc:subject/>
  <dc:title>PowerPoint Presentation</dc:title>
</cp:coreProperties>
</file>